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7.png" ContentType="image/png"/>
  <Override PartName="/ppt/media/image2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05e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Click to move the slide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54DA-0382-423C-8783-F0FC4DD15A73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A599-1E43-4F3E-A9A5-C8F33399F05E}" type="slidenum">
              <a:rPr b="0" lang="de-DE" sz="1200" spc="-1" strike="noStrike">
                <a:solidFill>
                  <a:srgbClr val="00305e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05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1C63-F845-4951-AE5B-F249B2D8889D}" type="slidenum">
              <a:rPr b="0" lang="de-DE" sz="1200" spc="-1" strike="noStrike">
                <a:solidFill>
                  <a:srgbClr val="00305e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05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86882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4840" y="3908160"/>
            <a:ext cx="86882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4840" y="390816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6960" y="390816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2440" y="193212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9680" y="193212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04840" y="390816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2440" y="390816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9680" y="390816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04840" y="1932120"/>
            <a:ext cx="868824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868824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04840" y="856800"/>
            <a:ext cx="86882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04840" y="390816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04840" y="1932120"/>
            <a:ext cx="868824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6960" y="390816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04840" y="3908160"/>
            <a:ext cx="86882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86882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04840" y="3908160"/>
            <a:ext cx="86882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4840" y="390816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6960" y="390816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42440" y="193212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9680" y="193212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04840" y="390816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42440" y="390816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9680" y="390816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4840" y="1932120"/>
            <a:ext cx="868824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868824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868824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04840" y="856800"/>
            <a:ext cx="86882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04840" y="390816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6960" y="390816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04840" y="3908160"/>
            <a:ext cx="86882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86882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04840" y="3908160"/>
            <a:ext cx="86882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04840" y="390816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6960" y="390816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2440" y="193212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9680" y="193212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204840" y="390816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2440" y="390816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9680" y="3908160"/>
            <a:ext cx="27972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4840" y="856800"/>
            <a:ext cx="86882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04840" y="390816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6960" y="390816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484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6960" y="1932120"/>
            <a:ext cx="42397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4840" y="3908160"/>
            <a:ext cx="86882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P_Hintergrund_05b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Click to edit the title text format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4840" y="1932120"/>
            <a:ext cx="868824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1731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Click to edit the outline text format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1" marL="366840" indent="18252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Second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2" marL="709560" indent="17640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Third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3" marL="1077840" indent="1713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Fourth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4" marL="1432080" indent="1839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Fifth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5" marL="1432080" indent="1839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Sixth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6" marL="1432080" indent="1839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Seventh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179280" y="6539040"/>
            <a:ext cx="4343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305e"/>
                </a:solidFill>
                <a:latin typeface="MetaNormal-Roman"/>
              </a:rPr>
              <a:t>Olga Lunina</a:t>
            </a:r>
            <a:endParaRPr b="0" lang="en-US" sz="1100" spc="-1" strike="noStrike">
              <a:solidFill>
                <a:srgbClr val="00305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PP_Hintergrund_05a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41" name="Grafik 6" descr=""/>
          <p:cNvPicPr/>
          <p:nvPr/>
        </p:nvPicPr>
        <p:blipFill>
          <a:blip r:embed="rId3"/>
          <a:stretch/>
        </p:blipFill>
        <p:spPr>
          <a:xfrm>
            <a:off x="5788080" y="5732640"/>
            <a:ext cx="310500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Click to edit the title text format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04840" y="1932120"/>
            <a:ext cx="868824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1731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Click to edit the outline text format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1" marL="366840" indent="18252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Second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2" marL="709560" indent="17640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Third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3" marL="1077840" indent="1713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Fourth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4" marL="1432080" indent="1839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Fifth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5" marL="1432080" indent="1839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Sixth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6" marL="1432080" indent="1839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Seventh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_Hintergrund_05b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179280" y="6539040"/>
            <a:ext cx="4343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305e"/>
                </a:solidFill>
                <a:latin typeface="MetaNormal-Roman"/>
              </a:rPr>
              <a:t>Olga Lunina</a:t>
            </a:r>
            <a:endParaRPr b="0" lang="en-US" sz="1100" spc="-1" strike="noStrike">
              <a:solidFill>
                <a:srgbClr val="00305e"/>
              </a:solidFill>
              <a:latin typeface="Arial"/>
            </a:endParaRPr>
          </a:p>
        </p:txBody>
      </p:sp>
      <p:pic>
        <p:nvPicPr>
          <p:cNvPr id="82" name="Grafik 5" descr=""/>
          <p:cNvPicPr/>
          <p:nvPr/>
        </p:nvPicPr>
        <p:blipFill>
          <a:blip r:embed="rId3"/>
          <a:stretch/>
        </p:blipFill>
        <p:spPr>
          <a:xfrm>
            <a:off x="6732720" y="138240"/>
            <a:ext cx="2160360" cy="658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Click to edit the title text format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04840" y="1932120"/>
            <a:ext cx="868824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1731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Click to edit the outline text format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1" marL="366840" indent="18252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Second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2" marL="709560" indent="17640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Third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3" marL="1077840" indent="1713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Fourth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4" marL="1432080" indent="1839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Fifth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5" marL="1432080" indent="1839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Sixth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6" marL="1432080" indent="18396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05e"/>
                </a:solidFill>
                <a:latin typeface="MetaNormal-Roman"/>
              </a:rPr>
              <a:t>Seventh Outline Leve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iwi.uni-muenster.de/internationa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4440" y="1244160"/>
            <a:ext cx="864864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de-DE" sz="4800" spc="-1" strike="noStrike">
                <a:solidFill>
                  <a:srgbClr val="00305e"/>
                </a:solidFill>
                <a:latin typeface="MetaNormal-Roman"/>
              </a:rPr>
              <a:t>International Relations Center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4800" spc="-1" strike="noStrike">
              <a:solidFill>
                <a:srgbClr val="00305e"/>
              </a:solidFill>
              <a:latin typeface="MetaNormal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9840" y="1052280"/>
            <a:ext cx="80694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5e"/>
                </a:solidFill>
                <a:latin typeface="MetaNormal-Roman"/>
              </a:rPr>
              <a:t>Wann muss ich mich bewerben?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5280" y="1699920"/>
            <a:ext cx="4897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Das Online-Tool wird zu zwei Zeitpunkten für Bewerbungen freigeschaltet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buClr>
                <a:srgbClr val="003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buClr>
                <a:srgbClr val="003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Bewerbung für ein Auslandssemester im </a:t>
            </a:r>
            <a:r>
              <a:rPr b="1" lang="de-DE" sz="1700" spc="-1" strike="noStrike">
                <a:solidFill>
                  <a:srgbClr val="859600"/>
                </a:solidFill>
                <a:latin typeface="MetaNormal-Roman"/>
              </a:rPr>
              <a:t>Wintersemester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1" marL="366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 </a:t>
            </a: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1.-31. Januar </a:t>
            </a: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des gewünschten Austauschjahres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2" marL="7095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(z.B.: Bewerbung im Januar 2015 → Aufenthalt ab August/September 2015)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buClr>
                <a:srgbClr val="003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buClr>
                <a:srgbClr val="003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Bewerbung für ein Auslandssemester im </a:t>
            </a:r>
            <a:r>
              <a:rPr b="1" lang="de-DE" sz="1700" spc="-1" strike="noStrike">
                <a:solidFill>
                  <a:srgbClr val="859600"/>
                </a:solidFill>
                <a:latin typeface="MetaNormal-Roman"/>
              </a:rPr>
              <a:t>Sommersemester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1" marL="366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1.-31. August </a:t>
            </a: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des jeweiligen Vorjahres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2" marL="7095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(z.B.: Bewerbung im August 2015 → Aufenthalt ab Januar/Frühjahr 2016)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pic>
        <p:nvPicPr>
          <p:cNvPr id="179" name="Grafik 1" descr=""/>
          <p:cNvPicPr/>
          <p:nvPr/>
        </p:nvPicPr>
        <p:blipFill>
          <a:blip r:embed="rId1"/>
          <a:stretch/>
        </p:blipFill>
        <p:spPr>
          <a:xfrm>
            <a:off x="5292720" y="2516040"/>
            <a:ext cx="349092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814068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Wie bewerbe ich mich? 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700280"/>
            <a:ext cx="4464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Über </a:t>
            </a:r>
            <a:r>
              <a:rPr b="1" lang="de-DE" sz="1800" spc="-1" strike="noStrike">
                <a:solidFill>
                  <a:srgbClr val="00305e"/>
                </a:solidFill>
                <a:latin typeface="MetaNormal-Roman"/>
              </a:rPr>
              <a:t>Online-Tool</a:t>
            </a: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 hochladen:</a:t>
            </a:r>
            <a:br>
              <a:rPr sz="1800"/>
            </a:b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Lebenslauf (Deutsch bzw. Englisch)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Foto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Motivationsschreiben/Studienvorhaben (dt./engl.) 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pro Universität 1 Seite DIN A 4 Seite 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(</a:t>
            </a:r>
            <a:r>
              <a:rPr b="1" lang="de-DE" sz="1800" spc="-1" strike="noStrike">
                <a:solidFill>
                  <a:srgbClr val="00305e"/>
                </a:solidFill>
                <a:latin typeface="MetaNormal-Roman"/>
              </a:rPr>
              <a:t>max. 7 Prioritäten)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aktuelle Notenübersicht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Abiturzeugnis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evtl. Zeugnisse Ausbildung, Praktika, freiwilliges Engagement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evtl. Zeugnisse Sprachkurse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evtl. Nachweis TOEFL-Test (abhängig von der Ziel-Uni)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lnSpc>
                <a:spcPct val="90000"/>
              </a:lnSpc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</p:txBody>
      </p:sp>
      <p:pic>
        <p:nvPicPr>
          <p:cNvPr id="182" name="Grafik 3" descr=""/>
          <p:cNvPicPr/>
          <p:nvPr/>
        </p:nvPicPr>
        <p:blipFill>
          <a:blip r:embed="rId1"/>
          <a:stretch/>
        </p:blipFill>
        <p:spPr>
          <a:xfrm>
            <a:off x="5035680" y="2492280"/>
            <a:ext cx="35272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814068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Auswahlprozess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700280"/>
            <a:ext cx="4176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Einreichen der Unterlagen: Lebenslauf, Noten, Zeugnisse - v.a. aber </a:t>
            </a:r>
            <a:r>
              <a:rPr b="1" lang="de-DE" sz="1700" spc="-1" strike="noStrike">
                <a:solidFill>
                  <a:srgbClr val="859600"/>
                </a:solidFill>
                <a:latin typeface="MetaNormal-Roman"/>
              </a:rPr>
              <a:t>Studienvorhaben!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Wingdings"/>
                <a:ea typeface="Wingdings"/>
              </a:rPr>
              <a:t></a:t>
            </a: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 </a:t>
            </a: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Motivation und vorherige intensive Beschäftigung mit der Ziel-Uni und Studienplanung, z.B.: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1" marL="367920" indent="157680">
              <a:spcBef>
                <a:spcPts val="425"/>
              </a:spcBef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Wo stehen Sie</a:t>
            </a: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 im Studium?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1" marL="367920" indent="157680">
              <a:spcBef>
                <a:spcPts val="425"/>
              </a:spcBef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Warum</a:t>
            </a: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 soll es dieses </a:t>
            </a: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Land</a:t>
            </a: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 / diese </a:t>
            </a: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Uni</a:t>
            </a: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 sein? Rankings? Expertise?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1" marL="367920" indent="157680">
              <a:spcBef>
                <a:spcPts val="425"/>
              </a:spcBef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Welche </a:t>
            </a: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Anknüpfungspunkte</a:t>
            </a: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 gibt es an dieser Wunschuni zu Ihrem Studium oder zu Ihren Studienschwerpunkten / Ihrer Berufsplanung?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lvl="1" marL="367920" indent="157680">
              <a:spcBef>
                <a:spcPts val="425"/>
              </a:spcBef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Welche</a:t>
            </a: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 </a:t>
            </a: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Kurse </a:t>
            </a: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würden Sie belegen können bzw. wollen?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pic>
        <p:nvPicPr>
          <p:cNvPr id="185" name="Grafik 4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27907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814068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Wie stehen meine Chancen? 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6560" y="1688760"/>
            <a:ext cx="2592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indent="171360"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indent="171360"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88" name="Textfeld 3"/>
          <p:cNvSpPr/>
          <p:nvPr/>
        </p:nvSpPr>
        <p:spPr>
          <a:xfrm>
            <a:off x="8893080" y="3933720"/>
            <a:ext cx="1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Arial"/>
            </a:endParaRPr>
          </a:p>
        </p:txBody>
      </p:sp>
      <p:pic>
        <p:nvPicPr>
          <p:cNvPr id="189" name="Grafik 1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032000" cy="2687760"/>
          </a:xfrm>
          <a:prstGeom prst="rect">
            <a:avLst/>
          </a:prstGeom>
          <a:ln w="0">
            <a:noFill/>
          </a:ln>
        </p:spPr>
      </p:pic>
      <p:sp>
        <p:nvSpPr>
          <p:cNvPr id="190" name="Inhaltsplatzhalter 2"/>
          <p:cNvSpPr/>
          <p:nvPr/>
        </p:nvSpPr>
        <p:spPr>
          <a:xfrm>
            <a:off x="395280" y="1792440"/>
            <a:ext cx="367200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5e"/>
                </a:solidFill>
                <a:latin typeface="MetaNormalLF-Roman"/>
              </a:rPr>
              <a:t>Ergebnis der Bewerberrunde für das WS 2014/15</a:t>
            </a:r>
            <a:endParaRPr b="0" lang="en-US" sz="1800" spc="-1" strike="noStrike">
              <a:solidFill>
                <a:srgbClr val="00305e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e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5e"/>
                </a:solidFill>
                <a:latin typeface="MetaNormalLF-Roman"/>
              </a:rPr>
              <a:t>28 Bewerber aus der WI, 12 haben einen Platz bekommen</a:t>
            </a:r>
            <a:endParaRPr b="0" lang="en-US" sz="1800" spc="-1" strike="noStrike">
              <a:solidFill>
                <a:srgbClr val="00305e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e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e"/>
              </a:solidFill>
              <a:latin typeface="Arial"/>
            </a:endParaRPr>
          </a:p>
        </p:txBody>
      </p:sp>
      <p:sp>
        <p:nvSpPr>
          <p:cNvPr id="191" name="Textfeld 11"/>
          <p:cNvSpPr/>
          <p:nvPr/>
        </p:nvSpPr>
        <p:spPr>
          <a:xfrm>
            <a:off x="1297080" y="5172120"/>
            <a:ext cx="63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5e"/>
                </a:solidFill>
                <a:latin typeface="MetaNormalLF-Roman"/>
              </a:rPr>
              <a:t>Zur Erinnerung: </a:t>
            </a:r>
            <a:r>
              <a:rPr b="1" lang="en-US" sz="2400" spc="-1" strike="noStrike">
                <a:solidFill>
                  <a:srgbClr val="859600"/>
                </a:solidFill>
                <a:latin typeface="MetaNormal-Roman"/>
              </a:rPr>
              <a:t>Fast 50 Plätze für WI-Studierende</a:t>
            </a:r>
            <a:endParaRPr b="0" lang="en-US" sz="2400" spc="-1" strike="noStrike">
              <a:solidFill>
                <a:srgbClr val="0030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140680" cy="5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Finanzierung</a:t>
            </a: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 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9280" y="1484280"/>
            <a:ext cx="87616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8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5e"/>
                </a:solidFill>
                <a:latin typeface="MetaNormal-Roman"/>
              </a:rPr>
              <a:t>ERASMUS-Mobilitätszuschuss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bei Partnerunis innerhalb von Europa automatisch mit Annahme für einen Austauschplatz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Förderung i.H.v. ~180€/Monat (länderabhängig)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Förderung ab Winter 2014 pro Studienabschnitt einmal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5e"/>
                </a:solidFill>
                <a:latin typeface="MetaNormal-Roman"/>
              </a:rPr>
              <a:t>PROMOS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Bei Partnerunis außerhalb Europas 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Bewerbung über das zentrale International Office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Förderung i.H.v. ~300€/Monat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5e"/>
                </a:solidFill>
                <a:latin typeface="MetaNormal-Roman"/>
              </a:rPr>
              <a:t>Stipendien des DAAD </a:t>
            </a: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(Deutscher Akademischer Austauschdienst)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Stipendiendatenbank, z.B. Jahresaufenthaltsstipendien; Stipendien von Stiftungen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Bewerbung Jahresstipendien direkt beim DAAD (Stipendiendatenbank, DAAD-Führer)/bei Stiftungen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Landesspezifische Förderungsbeträge, auch für Versicherungen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z.T. Verrechnung von DAAD-Stipendien mit anderen Förderungen möglich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5e"/>
                </a:solidFill>
                <a:latin typeface="MetaNormal-Roman"/>
              </a:rPr>
              <a:t>Bei allen Bezug von BAföG parallel möglich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</p:txBody>
      </p:sp>
      <p:pic>
        <p:nvPicPr>
          <p:cNvPr id="194" name="Grafik 1" descr=""/>
          <p:cNvPicPr/>
          <p:nvPr/>
        </p:nvPicPr>
        <p:blipFill>
          <a:blip r:embed="rId1"/>
          <a:stretch/>
        </p:blipFill>
        <p:spPr>
          <a:xfrm>
            <a:off x="6078600" y="2276640"/>
            <a:ext cx="28623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8140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Prüfungsanerkennung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700280"/>
            <a:ext cx="597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Mobilitätsfenster </a:t>
            </a: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mit vereinfachter Anrechnung 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(5./6. Semester)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Bei der Planung des Aufenthalts: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lnSpc>
                <a:spcPct val="15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Frühzeitig mit eigenem Studienverlaufsplan vertraut machen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lnSpc>
                <a:spcPct val="15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Kursangebot der Gastuniversität recherchieren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lnSpc>
                <a:spcPct val="15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PAM Liste nach auf bereits angerechnete Kurse durchsuchen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lnSpc>
                <a:spcPct val="15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Eigene Schwerpunkte setzten 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lnSpc>
                <a:spcPct val="15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Anträge auf Prüfung der Anrechenbarkeit einreichen; 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sollten möglichst detailliert sein (Syllabi, verlangte 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Leistungen, Veranstaltungsumfang)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</p:txBody>
      </p:sp>
      <p:pic>
        <p:nvPicPr>
          <p:cNvPr id="197" name="Grafik 1" descr=""/>
          <p:cNvPicPr/>
          <p:nvPr/>
        </p:nvPicPr>
        <p:blipFill>
          <a:blip r:embed="rId1"/>
          <a:stretch/>
        </p:blipFill>
        <p:spPr>
          <a:xfrm>
            <a:off x="5724360" y="3284640"/>
            <a:ext cx="33274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9963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5e"/>
                </a:solidFill>
                <a:latin typeface="MetaNormal-Roman"/>
              </a:rPr>
              <a:t>Messe „Wege ins Ausland“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5280" y="2349000"/>
            <a:ext cx="439272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80" indent="165960">
              <a:buClr>
                <a:srgbClr val="003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Jährlich im November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5960">
              <a:buClr>
                <a:srgbClr val="003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Vorträge zu den Themen Studien- und 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Praxisaufenthalte im Ausland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5960">
              <a:buClr>
                <a:srgbClr val="003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Austauschmöglichkeiten mit Returnees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5960">
              <a:buClr>
                <a:srgbClr val="0030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Infos zu Finanzierung, Anerkennung etc.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5960">
              <a:buClr>
                <a:srgbClr val="8596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5960">
              <a:buClr>
                <a:srgbClr val="859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59600"/>
                </a:solidFill>
                <a:latin typeface="MetaNormal-Roman"/>
              </a:rPr>
              <a:t>6. November, 18:00h 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59600"/>
                </a:solidFill>
                <a:latin typeface="MetaNormal-Roman"/>
              </a:rPr>
              <a:t>Schloss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5960">
              <a:buClr>
                <a:srgbClr val="859600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pic>
        <p:nvPicPr>
          <p:cNvPr id="200" name="Grafik 2" descr=""/>
          <p:cNvPicPr/>
          <p:nvPr/>
        </p:nvPicPr>
        <p:blipFill>
          <a:blip r:embed="rId1"/>
          <a:stretch/>
        </p:blipFill>
        <p:spPr>
          <a:xfrm>
            <a:off x="5364000" y="1066680"/>
            <a:ext cx="359568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1000" y="1052640"/>
            <a:ext cx="86886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5e"/>
                </a:solidFill>
                <a:latin typeface="MetaNormal-Roman"/>
              </a:rPr>
              <a:t>Kontakt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04480" y="1700280"/>
            <a:ext cx="5087880" cy="38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305e"/>
                </a:solidFill>
                <a:latin typeface="MetaNormal-Roman"/>
              </a:rPr>
              <a:t>International Relations Center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Olga Lunina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Dekanat der Wirtschaftswissenschaftlichen Fakultät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Raum 156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E-Mail: </a:t>
            </a:r>
            <a:r>
              <a:rPr b="0" lang="de-DE" sz="1700" spc="-1" strike="noStrike" u="sng">
                <a:solidFill>
                  <a:srgbClr val="b1c800"/>
                </a:solidFill>
                <a:uFillTx/>
                <a:latin typeface="MetaNormal-Roman"/>
              </a:rPr>
              <a:t>olga.lunina@wiwi.uni-muenster.de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Telefon: 0251-83 22784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 u="sng">
                <a:solidFill>
                  <a:srgbClr val="b1c800"/>
                </a:solidFill>
                <a:uFillTx/>
                <a:latin typeface="MetaNormal-Roman"/>
                <a:hlinkClick r:id="rId1"/>
              </a:rPr>
              <a:t>www.wiwi.uni-muenster.de/international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Sprechstunde: 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Dienstag und Donnerstag 9:30 – 11:30h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5e"/>
                </a:solidFill>
                <a:latin typeface="MetaNormal-Roman"/>
              </a:rPr>
              <a:t>Mittwoch 14:00 – 16:00h</a:t>
            </a: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5e"/>
              </a:solidFill>
              <a:latin typeface="MetaNormal-Roman"/>
            </a:endParaRPr>
          </a:p>
        </p:txBody>
      </p:sp>
      <p:pic>
        <p:nvPicPr>
          <p:cNvPr id="203" name="Grafik 3" descr=""/>
          <p:cNvPicPr/>
          <p:nvPr/>
        </p:nvPicPr>
        <p:blipFill>
          <a:blip r:embed="rId2"/>
          <a:stretch/>
        </p:blipFill>
        <p:spPr>
          <a:xfrm>
            <a:off x="4840200" y="3213000"/>
            <a:ext cx="4213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996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5e"/>
                </a:solidFill>
                <a:latin typeface="MetaNormal-Roman"/>
              </a:rPr>
              <a:t>International Relations Center (IRC) der Fakultät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63640" y="1773360"/>
            <a:ext cx="53132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80" indent="160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05e"/>
                </a:solidFill>
                <a:latin typeface="MetaNormal-Roman"/>
              </a:rPr>
              <a:t>Beratung zum Auslandsstudium</a:t>
            </a:r>
            <a:endParaRPr b="0" lang="en-US" sz="19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0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05e"/>
                </a:solidFill>
                <a:latin typeface="MetaNormal-Roman"/>
              </a:rPr>
              <a:t>Bewerbung und Auswahl von Bewerbern</a:t>
            </a:r>
            <a:endParaRPr b="0" lang="en-US" sz="19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0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05e"/>
                </a:solidFill>
                <a:latin typeface="MetaNormal-Roman"/>
              </a:rPr>
              <a:t>Betreuung während des Auslandsaufenthalts</a:t>
            </a:r>
            <a:endParaRPr b="0" lang="en-US" sz="19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0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05e"/>
                </a:solidFill>
                <a:latin typeface="MetaNormal-Roman"/>
              </a:rPr>
              <a:t>Betreuung von „Incomings“</a:t>
            </a:r>
            <a:endParaRPr b="0" lang="en-US" sz="19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0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05e"/>
                </a:solidFill>
                <a:latin typeface="MetaNormal-Roman"/>
              </a:rPr>
              <a:t>Repräsentation der Fakultät auf internationalen </a:t>
            </a:r>
            <a:endParaRPr b="0" lang="en-US" sz="19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05e"/>
                </a:solidFill>
                <a:latin typeface="MetaNormal-Roman"/>
              </a:rPr>
              <a:t>Kongressen, Konferenzen und bei </a:t>
            </a:r>
            <a:endParaRPr b="0" lang="en-US" sz="19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05e"/>
                </a:solidFill>
                <a:latin typeface="MetaNormal-Roman"/>
              </a:rPr>
              <a:t>Partneruniversitäten </a:t>
            </a:r>
            <a:endParaRPr b="0" lang="en-US" sz="19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0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05e"/>
                </a:solidFill>
                <a:latin typeface="MetaNormal-Roman"/>
              </a:rPr>
              <a:t>Anbahnung neuer Kooperationen mit </a:t>
            </a:r>
            <a:endParaRPr b="0" lang="en-US" sz="19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05e"/>
                </a:solidFill>
                <a:latin typeface="MetaNormal-Roman"/>
              </a:rPr>
              <a:t>Internationalen Partneruniversitäten weltweit</a:t>
            </a:r>
            <a:endParaRPr b="0" lang="en-US" sz="19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0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05e"/>
                </a:solidFill>
                <a:latin typeface="MetaNormal-Roman"/>
              </a:rPr>
              <a:t>Internationalisierungsstrategie</a:t>
            </a:r>
            <a:endParaRPr b="0" lang="en-US" sz="19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</p:txBody>
      </p:sp>
      <p:pic>
        <p:nvPicPr>
          <p:cNvPr id="131" name="Grafik 1" descr=""/>
          <p:cNvPicPr/>
          <p:nvPr/>
        </p:nvPicPr>
        <p:blipFill>
          <a:blip r:embed="rId1"/>
          <a:stretch/>
        </p:blipFill>
        <p:spPr>
          <a:xfrm>
            <a:off x="119160" y="3141720"/>
            <a:ext cx="3552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9963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5e"/>
                </a:solidFill>
                <a:latin typeface="MetaNormal-Roman"/>
              </a:rPr>
              <a:t>International Office der WWU (Schlossplatz 3)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557360"/>
            <a:ext cx="6191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80" indent="16092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0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Beratung zu Auslandsstudium allgemein, z.B.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lvl="1" marL="340920" indent="1695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MetaNormal-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ERASMUS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lvl="1" marL="340920" indent="1695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MetaNormal-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Überseepartnerschaften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0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Koordination der Austauschprogramme auf Uni-Ebene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0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Abwicklung von Finanzen im ERASMUS-Programm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0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Beratung zu Stipendien – z.T. auch Vergabe von Stipendien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0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Ausschreibungen von Stiftungs-/Förderungsprogrammen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0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Beratung, Betreuung, Information von internationalen 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1080" indent="160920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Studierenden, die nach Münster kommen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</p:txBody>
      </p:sp>
      <p:pic>
        <p:nvPicPr>
          <p:cNvPr id="134" name="Grafik 1" descr=""/>
          <p:cNvPicPr/>
          <p:nvPr/>
        </p:nvPicPr>
        <p:blipFill>
          <a:blip r:embed="rId1"/>
          <a:stretch/>
        </p:blipFill>
        <p:spPr>
          <a:xfrm>
            <a:off x="6732720" y="2685960"/>
            <a:ext cx="22287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799632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Warum ins Ausland? 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pic>
        <p:nvPicPr>
          <p:cNvPr id="136" name="Inhaltsplatzhalter 9" descr="DAAD Grafik.bmp"/>
          <p:cNvPicPr/>
          <p:nvPr/>
        </p:nvPicPr>
        <p:blipFill>
          <a:blip r:embed="rId1"/>
          <a:stretch/>
        </p:blipFill>
        <p:spPr>
          <a:xfrm>
            <a:off x="1512720" y="1628640"/>
            <a:ext cx="60343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480" y="950760"/>
            <a:ext cx="8140680" cy="5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Wohin denn nur? 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38" name="Textfeld 4"/>
          <p:cNvSpPr/>
          <p:nvPr/>
        </p:nvSpPr>
        <p:spPr>
          <a:xfrm>
            <a:off x="468360" y="5383080"/>
            <a:ext cx="777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LF-Roman"/>
                <a:ea typeface="Arial"/>
              </a:rPr>
              <a:t>Eine Liste zum Download finden Sie auf </a:t>
            </a:r>
            <a:r>
              <a:rPr b="0" lang="de-DE" sz="1600" spc="-1" strike="noStrike" u="sng">
                <a:solidFill>
                  <a:srgbClr val="859600"/>
                </a:solidFill>
                <a:uFillTx/>
                <a:latin typeface="MetaNormalLF-Roman"/>
                <a:ea typeface="Arial"/>
              </a:rPr>
              <a:t>www.wiwi.uni-muenster.de/international </a:t>
            </a:r>
            <a:br>
              <a:rPr sz="1600"/>
            </a:br>
            <a:r>
              <a:rPr b="0" lang="de-DE" sz="1600" spc="-1" strike="noStrike">
                <a:solidFill>
                  <a:srgbClr val="00305e"/>
                </a:solidFill>
                <a:latin typeface="MetaNormalLF-Roman"/>
                <a:ea typeface="Arial"/>
              </a:rPr>
              <a:t>&gt; Im Ausland studieren</a:t>
            </a:r>
            <a:br>
              <a:rPr sz="1600"/>
            </a:br>
            <a:r>
              <a:rPr b="0" lang="de-DE" sz="1600" spc="-1" strike="noStrike">
                <a:solidFill>
                  <a:srgbClr val="00305e"/>
                </a:solidFill>
                <a:latin typeface="MetaNormalLF-Roman"/>
                <a:ea typeface="Arial"/>
              </a:rPr>
              <a:t>&gt; Zielländer 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</p:txBody>
      </p:sp>
      <p:pic>
        <p:nvPicPr>
          <p:cNvPr id="139" name="Inhaltsplatzhalter 2" descr=""/>
          <p:cNvPicPr/>
          <p:nvPr/>
        </p:nvPicPr>
        <p:blipFill>
          <a:blip r:embed="rId1"/>
          <a:stretch/>
        </p:blipFill>
        <p:spPr>
          <a:xfrm>
            <a:off x="1332000" y="1542960"/>
            <a:ext cx="590400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4840" y="856800"/>
            <a:ext cx="8688240" cy="10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Internationale Kooperationen der WI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04480" y="1932120"/>
            <a:ext cx="436716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5e"/>
                </a:solidFill>
                <a:latin typeface="MetaNormal-Roman"/>
              </a:rPr>
              <a:t>Europa 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Copenhagen Business School 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University of Agder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Turku School of Economics and Business Administration 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Wroclaw University of Economics 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Poznan University of Economics 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Karlstad University 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Kaunas University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Universität Bern 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Universidad Complutense de Madrid 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Universidad Politecnica de Madrid 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08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Marmara University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42" name="Inhaltsplatzhalter 2"/>
          <p:cNvSpPr/>
          <p:nvPr/>
        </p:nvSpPr>
        <p:spPr>
          <a:xfrm>
            <a:off x="4859280" y="1989000"/>
            <a:ext cx="3935520" cy="37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5e"/>
                </a:solidFill>
                <a:latin typeface="MetaNormal-Roman"/>
              </a:rPr>
              <a:t>Australien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Queensland University of Technology 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University of Melbourne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5e"/>
                </a:solidFill>
                <a:latin typeface="MetaNormal-Roman"/>
              </a:rPr>
              <a:t>Brasilien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UNIDAVI - Universidade para o Desenvolvimento do Alto Vale do Itajaí, Rio do Sul 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5e"/>
                </a:solidFill>
                <a:latin typeface="MetaNormal-Roman"/>
              </a:rPr>
              <a:t>Süd Korea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UNIST Ulsan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e"/>
              </a:solidFill>
              <a:latin typeface="Arial"/>
            </a:endParaRPr>
          </a:p>
          <a:p>
            <a:pPr marL="1440">
              <a:lnSpc>
                <a:spcPct val="120000"/>
              </a:lnSpc>
              <a:buClr>
                <a:srgbClr val="00305e"/>
              </a:buClr>
              <a:buFont typeface="MetaNormal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5e"/>
                </a:solidFill>
                <a:latin typeface="MetaNormal-Roman"/>
              </a:rPr>
              <a:t>Plätze insgesamt: ~ 50</a:t>
            </a:r>
            <a:endParaRPr b="0" lang="en-US" sz="2000" spc="-1" strike="noStrike">
              <a:solidFill>
                <a:srgbClr val="00305e"/>
              </a:solidFill>
              <a:latin typeface="Arial"/>
            </a:endParaRPr>
          </a:p>
          <a:p>
            <a:pPr marL="1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5480" y="950760"/>
            <a:ext cx="8140680" cy="5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Überlegungen vorab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pic>
        <p:nvPicPr>
          <p:cNvPr id="144" name="Gruppieren 4" descr=""/>
          <p:cNvPicPr/>
          <p:nvPr/>
        </p:nvPicPr>
        <p:blipFill>
          <a:blip r:embed="rId1"/>
          <a:stretch/>
        </p:blipFill>
        <p:spPr>
          <a:xfrm>
            <a:off x="480960" y="3309840"/>
            <a:ext cx="1596960" cy="871560"/>
          </a:xfrm>
          <a:prstGeom prst="rect">
            <a:avLst/>
          </a:prstGeom>
          <a:ln w="0">
            <a:noFill/>
          </a:ln>
        </p:spPr>
      </p:pic>
      <p:pic>
        <p:nvPicPr>
          <p:cNvPr id="145" name="Gruppieren 9" descr=""/>
          <p:cNvPicPr/>
          <p:nvPr/>
        </p:nvPicPr>
        <p:blipFill>
          <a:blip r:embed="rId2"/>
          <a:stretch/>
        </p:blipFill>
        <p:spPr>
          <a:xfrm>
            <a:off x="2639880" y="2481120"/>
            <a:ext cx="1603440" cy="865440"/>
          </a:xfrm>
          <a:prstGeom prst="rect">
            <a:avLst/>
          </a:prstGeom>
          <a:ln w="0">
            <a:noFill/>
          </a:ln>
        </p:spPr>
      </p:pic>
      <p:pic>
        <p:nvPicPr>
          <p:cNvPr id="146" name="Gruppieren 13" descr=""/>
          <p:cNvPicPr/>
          <p:nvPr/>
        </p:nvPicPr>
        <p:blipFill>
          <a:blip r:embed="rId3"/>
          <a:stretch/>
        </p:blipFill>
        <p:spPr>
          <a:xfrm>
            <a:off x="6754680" y="1517760"/>
            <a:ext cx="1603440" cy="865080"/>
          </a:xfrm>
          <a:prstGeom prst="rect">
            <a:avLst/>
          </a:prstGeom>
          <a:ln w="0">
            <a:noFill/>
          </a:ln>
        </p:spPr>
      </p:pic>
      <p:pic>
        <p:nvPicPr>
          <p:cNvPr id="147" name="Gruppieren 15" descr=""/>
          <p:cNvPicPr/>
          <p:nvPr/>
        </p:nvPicPr>
        <p:blipFill>
          <a:blip r:embed="rId4"/>
          <a:stretch/>
        </p:blipFill>
        <p:spPr>
          <a:xfrm>
            <a:off x="6754680" y="2371680"/>
            <a:ext cx="1603440" cy="858960"/>
          </a:xfrm>
          <a:prstGeom prst="rect">
            <a:avLst/>
          </a:prstGeom>
          <a:ln w="0">
            <a:noFill/>
          </a:ln>
        </p:spPr>
      </p:pic>
      <p:pic>
        <p:nvPicPr>
          <p:cNvPr id="148" name="Gruppieren 19" descr=""/>
          <p:cNvPicPr/>
          <p:nvPr/>
        </p:nvPicPr>
        <p:blipFill>
          <a:blip r:embed="rId5"/>
          <a:stretch/>
        </p:blipFill>
        <p:spPr>
          <a:xfrm>
            <a:off x="6754680" y="3224160"/>
            <a:ext cx="1603440" cy="8604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uppieren 21"/>
          <p:cNvGrpSpPr/>
          <p:nvPr/>
        </p:nvGrpSpPr>
        <p:grpSpPr>
          <a:xfrm>
            <a:off x="2697120" y="4286160"/>
            <a:ext cx="1479600" cy="739800"/>
            <a:chOff x="2697120" y="4286160"/>
            <a:chExt cx="1479600" cy="739800"/>
          </a:xfrm>
        </p:grpSpPr>
        <p:sp>
          <p:nvSpPr>
            <p:cNvPr id="150" name="Abgerundetes Rechteck 28"/>
            <p:cNvSpPr/>
            <p:nvPr/>
          </p:nvSpPr>
          <p:spPr>
            <a:xfrm>
              <a:off x="2697120" y="4286160"/>
              <a:ext cx="1479600" cy="73980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b1c8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5e"/>
                </a:solidFill>
                <a:latin typeface="Arial"/>
              </a:endParaRPr>
            </a:p>
          </p:txBody>
        </p:sp>
        <p:sp>
          <p:nvSpPr>
            <p:cNvPr id="151" name="Abgerundetes Rechteck 30"/>
            <p:cNvSpPr/>
            <p:nvPr/>
          </p:nvSpPr>
          <p:spPr>
            <a:xfrm>
              <a:off x="2719080" y="4308120"/>
              <a:ext cx="1435320" cy="695520"/>
            </a:xfrm>
            <a:prstGeom prst="rect">
              <a:avLst/>
            </a:prstGeom>
            <a:solidFill>
              <a:srgbClr val="00305e"/>
            </a:solidFill>
            <a:ln w="9360">
              <a:solidFill>
                <a:srgbClr val="b1c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MetaNormal-Roman"/>
                </a:rPr>
                <a:t>Nein</a:t>
              </a:r>
              <a:endParaRPr b="0" lang="en-US" sz="1600" spc="-1" strike="noStrike">
                <a:solidFill>
                  <a:srgbClr val="00305e"/>
                </a:solidFill>
                <a:latin typeface="Arial"/>
              </a:endParaRPr>
            </a:p>
          </p:txBody>
        </p:sp>
      </p:grpSp>
      <p:grpSp>
        <p:nvGrpSpPr>
          <p:cNvPr id="152" name="Gruppieren 6"/>
          <p:cNvGrpSpPr/>
          <p:nvPr/>
        </p:nvGrpSpPr>
        <p:grpSpPr>
          <a:xfrm>
            <a:off x="4673520" y="3622680"/>
            <a:ext cx="1479600" cy="739800"/>
            <a:chOff x="4673520" y="3622680"/>
            <a:chExt cx="1479600" cy="739800"/>
          </a:xfrm>
        </p:grpSpPr>
        <p:sp>
          <p:nvSpPr>
            <p:cNvPr id="153" name="Abgerundetes Rechteck 57"/>
            <p:cNvSpPr/>
            <p:nvPr/>
          </p:nvSpPr>
          <p:spPr>
            <a:xfrm>
              <a:off x="4673520" y="3622680"/>
              <a:ext cx="1479600" cy="739800"/>
            </a:xfrm>
            <a:prstGeom prst="roundRect">
              <a:avLst>
                <a:gd name="adj" fmla="val 10000"/>
              </a:avLst>
            </a:prstGeom>
            <a:solidFill>
              <a:srgbClr val="00305e"/>
            </a:solidFill>
            <a:ln w="38160">
              <a:solidFill>
                <a:srgbClr val="b1c8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5e"/>
                </a:solidFill>
                <a:latin typeface="Arial"/>
              </a:endParaRPr>
            </a:p>
          </p:txBody>
        </p:sp>
        <p:sp>
          <p:nvSpPr>
            <p:cNvPr id="154" name="Textfeld 3"/>
            <p:cNvSpPr/>
            <p:nvPr/>
          </p:nvSpPr>
          <p:spPr>
            <a:xfrm>
              <a:off x="4908240" y="3840120"/>
              <a:ext cx="116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etaNormal-Roman"/>
                </a:rPr>
                <a:t>Praktikum</a:t>
              </a:r>
              <a:endParaRPr b="0" lang="en-US" sz="1600" spc="-1" strike="noStrike">
                <a:solidFill>
                  <a:srgbClr val="00305e"/>
                </a:solidFill>
                <a:latin typeface="Arial"/>
              </a:endParaRPr>
            </a:p>
          </p:txBody>
        </p:sp>
      </p:grpSp>
      <p:grpSp>
        <p:nvGrpSpPr>
          <p:cNvPr id="155" name="Gruppieren 8"/>
          <p:cNvGrpSpPr/>
          <p:nvPr/>
        </p:nvGrpSpPr>
        <p:grpSpPr>
          <a:xfrm>
            <a:off x="4673520" y="5027760"/>
            <a:ext cx="1479600" cy="888840"/>
            <a:chOff x="4673520" y="5027760"/>
            <a:chExt cx="1479600" cy="888840"/>
          </a:xfrm>
        </p:grpSpPr>
        <p:sp>
          <p:nvSpPr>
            <p:cNvPr id="156" name="Abgerundetes Rechteck 56"/>
            <p:cNvSpPr/>
            <p:nvPr/>
          </p:nvSpPr>
          <p:spPr>
            <a:xfrm>
              <a:off x="4673520" y="5027760"/>
              <a:ext cx="1479600" cy="739800"/>
            </a:xfrm>
            <a:prstGeom prst="roundRect">
              <a:avLst>
                <a:gd name="adj" fmla="val 10000"/>
              </a:avLst>
            </a:prstGeom>
            <a:solidFill>
              <a:srgbClr val="00305e"/>
            </a:solidFill>
            <a:ln w="38160">
              <a:solidFill>
                <a:srgbClr val="b1c8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5e"/>
                </a:solidFill>
                <a:latin typeface="Arial"/>
              </a:endParaRPr>
            </a:p>
          </p:txBody>
        </p:sp>
        <p:sp>
          <p:nvSpPr>
            <p:cNvPr id="157" name="Textfeld 59"/>
            <p:cNvSpPr/>
            <p:nvPr/>
          </p:nvSpPr>
          <p:spPr>
            <a:xfrm>
              <a:off x="4773240" y="5092560"/>
              <a:ext cx="1168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etaNormal-Roman"/>
                </a:rPr>
                <a:t>Super, Feierabend</a:t>
              </a:r>
              <a:endParaRPr b="0" lang="en-US" sz="1600" spc="-1" strike="noStrike">
                <a:solidFill>
                  <a:srgbClr val="00305e"/>
                </a:solidFill>
                <a:latin typeface="Arial"/>
              </a:endParaRPr>
            </a:p>
          </p:txBody>
        </p:sp>
      </p:grpSp>
      <p:grpSp>
        <p:nvGrpSpPr>
          <p:cNvPr id="158" name="Gruppieren 10"/>
          <p:cNvGrpSpPr/>
          <p:nvPr/>
        </p:nvGrpSpPr>
        <p:grpSpPr>
          <a:xfrm>
            <a:off x="4673520" y="2017800"/>
            <a:ext cx="1479600" cy="739800"/>
            <a:chOff x="4673520" y="2017800"/>
            <a:chExt cx="1479600" cy="739800"/>
          </a:xfrm>
        </p:grpSpPr>
        <p:sp>
          <p:nvSpPr>
            <p:cNvPr id="159" name="Abgerundetes Rechteck 48"/>
            <p:cNvSpPr/>
            <p:nvPr/>
          </p:nvSpPr>
          <p:spPr>
            <a:xfrm>
              <a:off x="4673520" y="2017800"/>
              <a:ext cx="1479600" cy="739800"/>
            </a:xfrm>
            <a:prstGeom prst="roundRect">
              <a:avLst>
                <a:gd name="adj" fmla="val 10000"/>
              </a:avLst>
            </a:prstGeom>
            <a:solidFill>
              <a:srgbClr val="00305e"/>
            </a:solidFill>
            <a:ln w="38160">
              <a:solidFill>
                <a:srgbClr val="b1c8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5e"/>
                </a:solidFill>
                <a:latin typeface="Arial"/>
              </a:endParaRPr>
            </a:p>
          </p:txBody>
        </p:sp>
        <p:sp>
          <p:nvSpPr>
            <p:cNvPr id="160" name="Textfeld 61"/>
            <p:cNvSpPr/>
            <p:nvPr/>
          </p:nvSpPr>
          <p:spPr>
            <a:xfrm>
              <a:off x="4844880" y="2203560"/>
              <a:ext cx="116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etaNormal-Roman"/>
                </a:rPr>
                <a:t>Studium</a:t>
              </a:r>
              <a:endParaRPr b="0" lang="en-US" sz="1600" spc="-1" strike="noStrike">
                <a:solidFill>
                  <a:srgbClr val="00305e"/>
                </a:solidFill>
                <a:latin typeface="Arial"/>
              </a:endParaRPr>
            </a:p>
          </p:txBody>
        </p:sp>
      </p:grpSp>
      <p:cxnSp>
        <p:nvCxnSpPr>
          <p:cNvPr id="161" name="Gerade Verbindung mit Pfeil 66"/>
          <p:cNvCxnSpPr/>
          <p:nvPr/>
        </p:nvCxnSpPr>
        <p:spPr>
          <a:xfrm flipV="1">
            <a:off x="6278040" y="1730160"/>
            <a:ext cx="367560" cy="132480"/>
          </a:xfrm>
          <a:prstGeom prst="straightConnector1">
            <a:avLst/>
          </a:prstGeom>
          <a:ln w="76320">
            <a:solidFill>
              <a:srgbClr val="b1c800"/>
            </a:solidFill>
            <a:miter/>
            <a:tailEnd len="med" type="triangle" w="med"/>
          </a:ln>
        </p:spPr>
      </p:cxnSp>
      <p:cxnSp>
        <p:nvCxnSpPr>
          <p:cNvPr id="162" name="Gerade Verbindung mit Pfeil 67"/>
          <p:cNvCxnSpPr/>
          <p:nvPr/>
        </p:nvCxnSpPr>
        <p:spPr>
          <a:xfrm flipV="1">
            <a:off x="6281280" y="3757320"/>
            <a:ext cx="366120" cy="132480"/>
          </a:xfrm>
          <a:prstGeom prst="straightConnector1">
            <a:avLst/>
          </a:prstGeom>
          <a:ln w="76320">
            <a:solidFill>
              <a:srgbClr val="b1c800"/>
            </a:solidFill>
            <a:miter/>
            <a:tailEnd len="med" type="triangle" w="med"/>
          </a:ln>
        </p:spPr>
      </p:cxnSp>
      <p:cxnSp>
        <p:nvCxnSpPr>
          <p:cNvPr id="163" name="Gerade Verbindung mit Pfeil 68"/>
          <p:cNvCxnSpPr/>
          <p:nvPr/>
        </p:nvCxnSpPr>
        <p:spPr>
          <a:xfrm flipV="1">
            <a:off x="4260960" y="2501640"/>
            <a:ext cx="367200" cy="132480"/>
          </a:xfrm>
          <a:prstGeom prst="straightConnector1">
            <a:avLst/>
          </a:prstGeom>
          <a:ln w="76320">
            <a:solidFill>
              <a:srgbClr val="b1c800"/>
            </a:solidFill>
            <a:miter/>
            <a:tailEnd len="med" type="triangle" w="med"/>
          </a:ln>
        </p:spPr>
      </p:cxnSp>
      <p:cxnSp>
        <p:nvCxnSpPr>
          <p:cNvPr id="164" name="Gerade Verbindung mit Pfeil 69"/>
          <p:cNvCxnSpPr/>
          <p:nvPr/>
        </p:nvCxnSpPr>
        <p:spPr>
          <a:xfrm flipV="1">
            <a:off x="2163240" y="3131280"/>
            <a:ext cx="366120" cy="134280"/>
          </a:xfrm>
          <a:prstGeom prst="straightConnector1">
            <a:avLst/>
          </a:prstGeom>
          <a:ln w="76320">
            <a:solidFill>
              <a:srgbClr val="b1c800"/>
            </a:solidFill>
            <a:miter/>
            <a:tailEnd len="med" type="triangle" w="med"/>
          </a:ln>
        </p:spPr>
      </p:cxnSp>
      <p:cxnSp>
        <p:nvCxnSpPr>
          <p:cNvPr id="165" name="Gerade Verbindung mit Pfeil 20"/>
          <p:cNvCxnSpPr/>
          <p:nvPr/>
        </p:nvCxnSpPr>
        <p:spPr>
          <a:xfrm>
            <a:off x="2187720" y="4178160"/>
            <a:ext cx="321120" cy="185040"/>
          </a:xfrm>
          <a:prstGeom prst="straightConnector1">
            <a:avLst/>
          </a:prstGeom>
          <a:ln w="76320">
            <a:solidFill>
              <a:srgbClr val="b1c800"/>
            </a:solidFill>
            <a:miter/>
            <a:tailEnd len="med" type="triangle" w="med"/>
          </a:ln>
        </p:spPr>
      </p:cxnSp>
      <p:cxnSp>
        <p:nvCxnSpPr>
          <p:cNvPr id="166" name="Gerade Verbindung mit Pfeil 72"/>
          <p:cNvCxnSpPr/>
          <p:nvPr/>
        </p:nvCxnSpPr>
        <p:spPr>
          <a:xfrm>
            <a:off x="4282920" y="5092560"/>
            <a:ext cx="322920" cy="183600"/>
          </a:xfrm>
          <a:prstGeom prst="straightConnector1">
            <a:avLst/>
          </a:prstGeom>
          <a:ln w="76320">
            <a:solidFill>
              <a:srgbClr val="b1c800"/>
            </a:solidFill>
            <a:miter/>
            <a:tailEnd len="med" type="triangle" w="med"/>
          </a:ln>
        </p:spPr>
      </p:cxnSp>
      <p:cxnSp>
        <p:nvCxnSpPr>
          <p:cNvPr id="167" name="Gerade Verbindung mit Pfeil 73"/>
          <p:cNvCxnSpPr/>
          <p:nvPr/>
        </p:nvCxnSpPr>
        <p:spPr>
          <a:xfrm>
            <a:off x="4295880" y="3392280"/>
            <a:ext cx="321120" cy="184680"/>
          </a:xfrm>
          <a:prstGeom prst="straightConnector1">
            <a:avLst/>
          </a:prstGeom>
          <a:ln w="76320">
            <a:solidFill>
              <a:srgbClr val="b1c800"/>
            </a:solidFill>
            <a:miter/>
            <a:tailEnd len="med" type="triangle" w="med"/>
          </a:ln>
        </p:spPr>
      </p:cxnSp>
      <p:cxnSp>
        <p:nvCxnSpPr>
          <p:cNvPr id="168" name="Gerade Verbindung mit Pfeil 74"/>
          <p:cNvCxnSpPr/>
          <p:nvPr/>
        </p:nvCxnSpPr>
        <p:spPr>
          <a:xfrm>
            <a:off x="6278040" y="2743200"/>
            <a:ext cx="321480" cy="185040"/>
          </a:xfrm>
          <a:prstGeom prst="straightConnector1">
            <a:avLst/>
          </a:prstGeom>
          <a:ln w="76320">
            <a:solidFill>
              <a:srgbClr val="b1c8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996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5e"/>
                </a:solidFill>
                <a:latin typeface="MetaNormal-Roman"/>
              </a:rPr>
              <a:t>Ein Ziel – verschiedene Wege 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700280"/>
            <a:ext cx="41050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7316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305e"/>
                </a:solidFill>
                <a:uFillTx/>
                <a:latin typeface="MetaNormal-Roman"/>
              </a:rPr>
              <a:t>Austauschprogramme des FBs/der Uni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440" indent="17316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d.h. </a:t>
            </a:r>
            <a:r>
              <a:rPr b="1" lang="de-DE" sz="1600" spc="-1" strike="noStrike">
                <a:solidFill>
                  <a:srgbClr val="859600"/>
                </a:solidFill>
                <a:latin typeface="MetaNormal-Roman"/>
              </a:rPr>
              <a:t>Partneruniversitäten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440" indent="173160"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440" indent="17316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Europa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440" indent="173160"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440" indent="17316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Übersee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440" indent="173160"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440" indent="17316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Bewerbung über das IRC bzw. beim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440" indent="17316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International Office der WWU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440" indent="173160"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440" indent="17316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Meist Befreiung von Studiengebühren;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440" indent="17316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ERASMUS-Mobilitätszuschuss (in Europa)</a:t>
            </a: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  <a:p>
            <a:pPr marL="1440" indent="173160">
              <a:buClr>
                <a:srgbClr val="00305e"/>
              </a:buClr>
              <a:buFont typeface="MetaNormal-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71" name="Textfeld 4"/>
          <p:cNvSpPr/>
          <p:nvPr/>
        </p:nvSpPr>
        <p:spPr>
          <a:xfrm>
            <a:off x="4859280" y="1700280"/>
            <a:ext cx="360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73160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305e"/>
                </a:solidFill>
                <a:uFillTx/>
                <a:latin typeface="MetaNormal-Roman"/>
              </a:rPr>
              <a:t>Freemover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 indent="173160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d.h. individuelle Suche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 indent="173160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 indent="173160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Europa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 indent="173160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 indent="173160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Übersee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 indent="173160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 indent="173160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Selbständige Bewerbung bei den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 indent="173160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jeweiligen Universitäten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 indent="173160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 indent="173160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Ggf. um Stipendien oder ähnliche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 marL="1440" indent="173160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-Roman"/>
              </a:rPr>
              <a:t>Förderungsmöglichkeiten kümmern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</p:txBody>
      </p:sp>
      <p:sp>
        <p:nvSpPr>
          <p:cNvPr id="172" name="Gerade Verbindung 6"/>
          <p:cNvSpPr/>
          <p:nvPr/>
        </p:nvSpPr>
        <p:spPr>
          <a:xfrm>
            <a:off x="4427640" y="1773360"/>
            <a:ext cx="0" cy="3671640"/>
          </a:xfrm>
          <a:prstGeom prst="line">
            <a:avLst/>
          </a:prstGeom>
          <a:ln w="9360">
            <a:solidFill>
              <a:srgbClr val="003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5e"/>
              </a:solidFill>
              <a:latin typeface="Arial"/>
            </a:endParaRPr>
          </a:p>
        </p:txBody>
      </p:sp>
      <p:sp>
        <p:nvSpPr>
          <p:cNvPr id="173" name="Textfeld 13"/>
          <p:cNvSpPr/>
          <p:nvPr/>
        </p:nvSpPr>
        <p:spPr>
          <a:xfrm>
            <a:off x="539640" y="566100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5e"/>
                </a:solidFill>
                <a:latin typeface="MetaNormalLF-Roman"/>
              </a:rPr>
              <a:t>        </a:t>
            </a:r>
            <a:r>
              <a:rPr b="0" lang="de-DE" sz="1600" spc="-1" strike="noStrike">
                <a:solidFill>
                  <a:srgbClr val="00305e"/>
                </a:solidFill>
                <a:latin typeface="MetaNormalLF-Roman"/>
              </a:rPr>
              <a:t>Oder alternativ: komplettes Auslandsstudium im Master (= vertikale Mobilität)</a:t>
            </a: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996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5e"/>
                </a:solidFill>
                <a:latin typeface="MetaNormal-Roman"/>
              </a:rPr>
              <a:t>Wann ins Ausland? </a:t>
            </a:r>
            <a:endParaRPr b="0" lang="en-US" sz="2400" spc="-1" strike="noStrike">
              <a:solidFill>
                <a:srgbClr val="00305e"/>
              </a:solidFill>
              <a:latin typeface="MetaNormal-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000" y="1788840"/>
            <a:ext cx="504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Besser Wintersemester als Sommersemester: meist bessere Vereinbarkeit der akademischen Kalender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285840" indent="-28584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285840" indent="-28584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Bachelor-Studierende: Tendenz zum 5. Semester  (Beginn: WS; bei Beginn im SS: 5./6. Semester) Mobilitätsfenster / flexibilisierte Anrechnungspraxis</a:t>
            </a:r>
            <a:br>
              <a:rPr sz="1800"/>
            </a:b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 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285840" indent="-28584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Master-Studierende: 3. Semester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285840" indent="-28584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285840" indent="-285840">
              <a:buClr>
                <a:srgbClr val="00305e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5e"/>
                </a:solidFill>
                <a:latin typeface="MetaNormal-Roman"/>
              </a:rPr>
              <a:t>Vorlaufzeit: ca. 10 Monate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285840" indent="-28584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2d050"/>
                </a:solidFill>
                <a:latin typeface="MetaNormal-Roman"/>
              </a:rPr>
              <a:t>                              </a:t>
            </a:r>
            <a:endParaRPr b="0" lang="en-US" sz="1800" spc="-1" strike="noStrike">
              <a:solidFill>
                <a:srgbClr val="00305e"/>
              </a:solidFill>
              <a:latin typeface="MetaNormal-Roman"/>
            </a:endParaRPr>
          </a:p>
          <a:p>
            <a:pPr marL="285840" indent="-285840"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2d050"/>
                </a:solidFill>
                <a:latin typeface="MetaNormal-Roman"/>
              </a:rPr>
              <a:t>               </a:t>
            </a:r>
            <a:r>
              <a:rPr b="1" lang="de-DE" sz="1800" spc="-1" strike="noStrike">
                <a:solidFill>
                  <a:srgbClr val="b1c800"/>
                </a:solidFill>
                <a:latin typeface="MetaNormal-Roman"/>
              </a:rPr>
              <a:t> </a:t>
            </a:r>
            <a:r>
              <a:rPr b="1" lang="de-DE" sz="3200" spc="-1" strike="noStrike">
                <a:solidFill>
                  <a:srgbClr val="859600"/>
                </a:solidFill>
                <a:latin typeface="MetaNormal-Roman"/>
              </a:rPr>
              <a:t>Aber wie?</a:t>
            </a:r>
            <a:endParaRPr b="0" lang="en-US" sz="3200" spc="-1" strike="noStrike">
              <a:solidFill>
                <a:srgbClr val="00305e"/>
              </a:solidFill>
              <a:latin typeface="MetaNormal-Roman"/>
            </a:endParaRPr>
          </a:p>
        </p:txBody>
      </p:sp>
      <p:pic>
        <p:nvPicPr>
          <p:cNvPr id="176" name="Grafik 1" descr=""/>
          <p:cNvPicPr/>
          <p:nvPr/>
        </p:nvPicPr>
        <p:blipFill>
          <a:blip r:embed="rId1"/>
          <a:stretch/>
        </p:blipFill>
        <p:spPr>
          <a:xfrm>
            <a:off x="5508720" y="1125360"/>
            <a:ext cx="331920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2:58:06Z</dcterms:created>
  <dc:creator>Sophie Wohlhage</dc:creator>
  <dc:description/>
  <dc:language>en-US</dc:language>
  <cp:lastModifiedBy>Lunina, Olga</cp:lastModifiedBy>
  <cp:lastPrinted>2014-10-22T14:30:06Z</cp:lastPrinted>
  <dcterms:modified xsi:type="dcterms:W3CDTF">2014-10-22T15:23:09Z</dcterms:modified>
  <cp:revision>29</cp:revision>
  <dc:subject/>
  <dc:title>International Relations Center  Wege ins Ausland</dc:title>
</cp:coreProperties>
</file>